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311E-A3CC-437D-BA8A-202E1A014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B1D6-E691-4996-9D44-3196E58E2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E562-5FED-4984-999A-4424F1A09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2123-98F0-4657-BB0A-43D44D4C7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7917-0C8D-420C-A7CF-26123FBA3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F475-B750-4940-8172-2D71ABED8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AA70-A3A0-4652-92D4-71FF87F7C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7BEB-C56A-4EB6-9F71-44FD76118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6FD6-7FAB-4892-9115-C50EDE586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1B9-A42F-4B04-8B1B-17CE18A3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6DB-FCEE-40D5-A926-A595A122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A95-EC7A-45A2-98A3-273CB3F13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270-1454-40DD-9B33-3831E73C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8D43-58D3-448B-A4E7-7C8540B9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E932-AF7D-403C-8741-47721707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D77A-86E1-4A77-A0B2-E2CAA219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6643-87C2-4DDA-B455-FBD64CCE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2AAB-9B91-4FE5-812F-30BC2FF7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8353-AF19-438D-8DEA-DF9C0426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5EE4-EE9A-42F5-ABC0-DD1DA14F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2D81-B211-4046-8581-08319D3D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4608-188B-409A-BF33-3B82F15F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3539-AE36-4704-92B4-BC81AA3C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EAEE-3DF8-467F-894B-09B25987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9CCA-15C8-4275-A24F-DC890A8E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5166-024C-4BD7-BAE6-17D4F0F5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A817-5211-41F1-A513-E6B23B25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6BCC8-5B00-4BE8-A208-FB72A689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E187D-51B3-4D32-8636-9034E751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44815-94B0-4E31-BA23-C5FFE97F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D284C-D292-432A-B05C-A9F37A65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B50-7841-4388-A424-D6EE5286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07431-9FA8-44CC-AE34-74A8D0DD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03744-80A0-4FE0-8C8B-6E86D186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9D6A5-B62F-4CD4-8F95-1EF8269D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D5167-B5C7-4ADD-AA86-C0E3A8F9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FEA13-47A5-49E7-A592-B9255EE8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ECE2C-B9A6-4379-B562-E6AEF195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2E2B3-8CB2-4352-B07D-D2444158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804A-6962-45FD-9D8A-4242CCF9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AC0-CF8D-46DD-AFC7-FDDF6D09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9F4-118A-4A33-9E4B-C01B36E7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95F5-CA2A-4F5E-A5CA-5ACBECF1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C05-B01D-4012-8B1B-41705597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46C-74D5-4FBE-B2D2-BFBE59B2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D6B3-B81F-4D0F-9A7A-9376FBC51B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2FF6-A867-4D0C-B81E-73ECE9A98F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029C-D505-4431-806F-0E2994DE15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ll About 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8800" y="54864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s About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Ani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Fo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Things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I Grow 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The</a:t>
            </a:r>
            <a:br>
              <a:rPr sz="8600"/>
            </a:br>
            <a:r>
              <a:rPr b="0" lang="en-US" sz="8600" spc="-1" strike="noStrike">
                <a:solidFill>
                  <a:srgbClr val="000000"/>
                </a:solidFill>
                <a:latin typeface="Arial Black"/>
              </a:rPr>
              <a:t>End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9:15:44Z</dcterms:created>
  <dc:creator>woodsb</dc:creator>
  <dc:description/>
  <dc:language>en-US</dc:language>
  <cp:lastModifiedBy>Sedgwick</cp:lastModifiedBy>
  <dcterms:modified xsi:type="dcterms:W3CDTF">2011-03-06T23:00:20Z</dcterms:modified>
  <cp:revision>9</cp:revision>
  <dc:subject/>
  <dc:title>All About Me</dc:title>
</cp:coreProperties>
</file>